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ct" ContentType="image/x-pict"/>
  <Override PartName="/ppt/media/image11.png" ContentType="image/png"/>
  <Override PartName="/ppt/media/image4.pct" ContentType="image/x-pict"/>
  <Override PartName="/ppt/media/image5.png" ContentType="image/png"/>
  <Override PartName="/ppt/media/image10.png" ContentType="image/png"/>
  <Override PartName="/ppt/media/image6.pct" ContentType="image/x-pict"/>
  <Override PartName="/ppt/media/image7.pct" ContentType="image/x-pict"/>
  <Override PartName="/ppt/media/image8.pct" ContentType="image/x-pict"/>
  <Override PartName="/ppt/media/image9.pct" ContentType="image/x-pi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B50DB-A67B-4A22-8540-AB28B0811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99531-8CB7-4F4C-9DB1-A5C1D944B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6246E-B01D-48D1-9300-2D794056D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DF7D7-07EB-48B5-BEB9-08742AC3C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C03ED-5318-4C46-82B1-1BE69030B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CA2E6-79A0-40F3-8908-51DBF0919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E6A4E-9541-4AD8-8B29-89ED218B6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676FC-4E75-4907-8FE4-59CC8B6DA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D573D-826C-4B4F-90C1-3FE853F92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C99D1-CA9E-4F16-AF1F-5BA130C85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6D2A4-E252-4F43-8B7D-4569825D9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A5651-E5E0-494C-9475-8A750E02F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3C5C1-A1A3-4F58-916F-F0239130A2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ct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 cell ontology Revi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 cell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52280" y="1523880"/>
            <a:ext cx="8991720" cy="483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52280" y="722160"/>
            <a:ext cx="8521920" cy="613584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K T ce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609480"/>
            <a:ext cx="8902800" cy="51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s include CD markers and TF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52280" y="2057400"/>
            <a:ext cx="4572000" cy="2971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724280" y="2286000"/>
            <a:ext cx="4191120" cy="21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 ce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4 terms for types of T cell currently exist in the Cell Ontolog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oadly divided into immature and mature subsets, and into alpha-beta and gamma-delta subs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genus term ‘T cell’ is the parent term for all types of T ce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64960" y="738360"/>
            <a:ext cx="8574120" cy="58910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mature T ce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ture T ce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89080" y="1676520"/>
            <a:ext cx="8626320" cy="46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 Cell Ontolog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l issues for T ce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“thymocyte” to replace imma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ke definitions more precise. DN1 thymocyte  - CD4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D8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D44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D25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the concept of naïve versus antigen experienced T cell - instead of “mature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additional T helper subsets - introduce transcription factors as part of the defini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ges m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apsed immature and mature T cell into the T cell ter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de definitions more precise. DN1 thymocyte  - CD4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D8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D44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D25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ed some generic terms such as helper T cell, memory T ce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few cells have two par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panded the development sta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22400" y="1828800"/>
            <a:ext cx="9021600" cy="3429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 cell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76320" y="1371600"/>
            <a:ext cx="8458200" cy="39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28600" y="1219320"/>
            <a:ext cx="86994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1295280"/>
            <a:ext cx="84582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1T19:39:52Z</dcterms:created>
  <dc:creator>Penelope Morel</dc:creator>
  <dc:description/>
  <dc:language>en-US</dc:language>
  <cp:lastModifiedBy>Penelope Morel</cp:lastModifiedBy>
  <dcterms:modified xsi:type="dcterms:W3CDTF">2008-07-24T16:58:42Z</dcterms:modified>
  <cp:revision>5</cp:revision>
  <dc:subject/>
  <dc:title>T cell ontology</dc:title>
</cp:coreProperties>
</file>